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60DF-DE24-4BDF-8138-FE6CC8C2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CDB-1BA2-42DE-83AB-A30D69BC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83E-54E7-4D38-9965-DD69CB2E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F81-6388-486F-B769-CC91EA8F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3FB8-BBBA-46EB-B1D6-E2E3984C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D941-EFEB-4083-9FB1-4FB541C6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39DD-F9DC-47D1-A588-85A4A33F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88B-665D-4824-BFCE-4202F064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3B12-D259-4185-AF11-C24BF451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42A-1CC6-41E8-A818-522F63BB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E07F-FFA4-4E47-895C-227F1401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FC07-6D11-4B42-BC70-58E78F45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DE6-501B-483D-8005-862C8CB6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220-02AB-4A39-86CF-603F5F24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E8D2-942E-48AC-B090-CA468360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C2EF-A44C-4404-9A6B-D7211872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03 ФАРМАКОЕКОНОМИЈ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итивање валидности и клиничког значаја фармакоекономских студиј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логија и токсик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и факултет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рошковно минимизир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 код лекова доказано подједнаке терапијске вредности: еквивалентна ефикасност и безбедност (нпр. генер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те се само трошк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 се даје лечењу са мањим трошков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1-Т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рошковна ефика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зилази проблем различите терапијске ефикасности или безбедности дв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шкови се пореде са једним или више клиничких исхода, заједничких за све испитиване гру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жење година жив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превенираних случајева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излеч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нежељених дејст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дана без симпт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рошковна кори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зилази проблем анализе само једног клиничког ис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струке димензије квалитета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 скора кори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0 (најгоре) до 1 (идеал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шкови према квалитетном времену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рошковна к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шкови и користи (штете) се изражавају у монетарним вредн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зилази проблем компарација различитих интервенција (различити исходи) у различитим попул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на вакцине у старих особа у циљу превенције смртоносних случајева грипа (стопа морталит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на еритропоетина код младих особа на дијализи у циљу превенције анемије (број трансфузија крви, инфекција ХЦБ или ХЦ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итике на пољу е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руги методолош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раживачко пи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нти компа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алитет изворних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а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ргинална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иза сензи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љивост за дату и друге сре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арација са другим сличним студ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ставни дизајн или мо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парентно презентовање резул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плицитно презентовање квалитета изворних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тна анализа сензи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оредивост са другим сличним студ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2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алидна фармакоекономска 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Критичка процена студ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 је примењена методологија одговарају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 ли су добијени резултати вал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 су резултати применљиви за услове конкретне прак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Изворни пода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ипови изворних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ход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уманист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ро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рекло изворних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а истраж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тролиса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псервацио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и из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истраж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средно праћење клиничког исхода у корелацији са трошковима оствареним током рандомизоване контролисане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 узорак популације испитаника (селекција болес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и временски период (недеље, месеци, ретко год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олошки приступ следи постулате рандомизираних контролисаних студија или опсервацион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Клиничке студије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равданост студије и јасне хип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и клинички исход – примарни ци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прави: број потпуно излечених, продужење година живо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лажни (сурогат)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лабораторијски параметри (нпр. циљни ИНР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вредност крвног притиска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коштана густина мерена остеодензиметр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кундарни клинички исход –секундарни ци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ој испитаника без нежељених дејстава, дужина ремисије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сање попул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сање фармакотерап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сање студијског дизај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сервациона или експериментална, слепост (маскирање), рандомизација (алокација терапије случајно или 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руги извори подат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 клиничких и економских података се долази посредно, коришћењем већ постојећих информац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ступне публиковане студ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зе података медицинских установа, фондова здравстеног осигурања или статистичких за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а (организација, град, регион) или читава популација испитаника (национални ни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жи временски период (здравствени програм или инвестициони циклу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ематска и критичка анализа свих изворн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рмакоекономско моделирањ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полација изворних резул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ивање граница поверења добијених резул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рекција несигурност изворних подат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оводи се надградњом изворних података математичким поступ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нализа клиничк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рковљев мо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онте Карло сим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рмакоекономска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, лекар, болница, осигурање, друш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зајн и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рмакоеконом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ке студије општег дизај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армакоекономске студ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оделовањ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руги приступи: 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сперименти дискрет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г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, 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либрац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од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и методолошки асп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страживачко питање, компаратор, изворни подаци, анализа сензитивност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сновни типови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но минимиз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minimization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на ефикас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effectiveness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на корис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utility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на кор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benefi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C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RHANGEL</cp:lastModifiedBy>
  <dcterms:modified xsi:type="dcterms:W3CDTF">2012-03-10T13:14:38Z</dcterms:modified>
  <cp:revision>16</cp:revision>
  <dc:subject/>
  <dc:title>Slide 1</dc:title>
</cp:coreProperties>
</file>